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B747-A69E-466B-A089-AAF839F26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07E0-A6D5-46E4-A82E-746B41A11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54C1-B3AE-499C-BE90-8FE09A670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3946-E0FC-4BBE-9B13-7E2468EAA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2185-5FF9-4ED5-A700-92030E571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97A9E-E364-41AB-BF56-53C61C6A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EEF40-264B-47A8-9817-EB41F775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74056-9D74-4334-B3CF-B0B3D0FB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D4E47-717B-405B-A43D-E37DEBF0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18C3B-FC1F-4443-A171-62B9C961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B916A-EBF2-4EC5-A5BC-5FF34420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7069E-9B25-48C7-A852-AD3EE7D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6337-1C84-41BD-90E2-7D413374D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C0E32-E4B4-4937-AA30-E62E434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C2D97-41AA-4610-A3FD-AA80FAB6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E6E92-508C-4ECB-8C94-5763106C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892D9-2E4D-4FF1-928C-B5D003FE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C228D-6F42-40B8-8C01-595DEA1B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8713-1CB6-45A7-BA08-78C3820C1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8A02-A144-47E7-A2BE-5BD69F79E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0116-296C-480B-8AEE-44FACC5F6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059A-EB14-4F8A-B124-9494F31EA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5E9C-229B-4378-B738-B59BA03DE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46DF-2F27-4B89-8420-24D968509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13A0-D51C-4451-9205-25F81F6DA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2C32C68-6711-4F9B-9C23-65CA8738E46B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0892-A36B-4780-B724-99EB8B08BD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6FD99A8-22D2-46B7-B1F3-6DDA0082A3C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orouzan4e07_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0EBEE45-EFE8-499F-9A49-1BFD7B0C988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99160" y="380880"/>
            <a:ext cx="64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fully connected mesh topology (five de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1927080" y="1652760"/>
            <a:ext cx="4854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42746677-5E3D-42AC-BD1E-BEF98D059EE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99160" y="380880"/>
            <a:ext cx="58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star topology connecting four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562040" y="1881360"/>
            <a:ext cx="59054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282A32B8-1A0D-40B0-9EA7-DA73B12D39E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99880" y="457200"/>
            <a:ext cx="59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bus topology connecting three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569880" y="2362320"/>
            <a:ext cx="788832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6EB55B71-7673-459D-B50D-9341514803C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0240" y="45720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ring topology connecting six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246240" y="1922400"/>
            <a:ext cx="85928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1FC34B97-DD2C-481D-8704-8259D65E42E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95200" y="38088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ybrid topology: a star backbone with three bu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736560" y="1490760"/>
            <a:ext cx="688356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FE9ADB83-C5C5-4C6C-95C2-236EA985414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67560" y="3618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egories of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hort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signed to provide local interconn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de Area Networks (W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ong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larg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ropolitan Area Networks (M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areas such as a city, a cam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8B571A3C-C53F-4A25-874F-2BFD1744B69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95920" y="3808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 isolated LAN connecting 12 computers to a hub in a clo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1239840" y="1622520"/>
            <a:ext cx="61516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CFF68DBD-6F18-46AB-BDF6-E683D4D35AC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98440" y="380880"/>
            <a:ext cx="71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Ns: a switched WAN and a point-to-point 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117440" y="1116000"/>
            <a:ext cx="71121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01652567-3CB6-4AD9-85DE-B009823F088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5560" y="2286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eterogeneous network made of four WANs and two 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1824120" y="990720"/>
            <a:ext cx="574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361006BB-1903-45A3-A0D7-94B98FEFFD2A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26080" y="15228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3  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6320" y="12193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terne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has revolutionized many aspects of our daily lives. It has affected the way we do business as well as the way we spend our leisure time. The Internet is a communication system that has brought a wealth of information to our fingertips and organized it for our us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28600" y="5045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Organization of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Internet Service Providers (IS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41200" y="4511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7AB42DD-5F7A-4AAB-AD19-FB85D7AC3B6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3920" y="195120"/>
            <a:ext cx="62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1   DATA COMMUN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6320" y="99108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elecommunic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eans communication at a distance. The wor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refers to information presented in whatever form is agreed upon by the parties creating and using the data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 communication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re the exchange of data between two devices via some form of transmission medium such as a wire cabl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228600" y="5048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mponents of a data communication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ata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241200" y="45720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5399BFC-95C5-4AC6-B8A8-F34B0C8FAC2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00240" y="30492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erarchical organization of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668600" y="1095480"/>
            <a:ext cx="549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30DF547-321E-4B55-884B-643C046C47F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6800" y="15228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4  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0825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protocol is synonymous with rule. It consists of a set of rules that govern data communications. It determines what is communicated, how it is communicated and when it is communicated. The key elements of a protocol are syntax, semantics and ti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28600" y="4495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ynt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Ti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41200" y="3962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C11F2F0-34FB-4A64-AF04-964ED3412AE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68640" y="36180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a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tructure or format of 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cates how to read the bits - field deline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terprets the meaning of the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nows which fields define what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data should be sent and w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peed at which data should be sent or speed at which it is being recei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A4260D2-31B8-4CD6-B140-2ACF33B2ABF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0492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ponents of a data communication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2640" y="2593800"/>
            <a:ext cx="7066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F1EC9093-E39A-419D-B547-29F78A3A67E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4840" y="38088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flow (simplex, half-duplex, and full-duple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219320" y="1171440"/>
            <a:ext cx="6489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2AC8087-7C36-40D9-9B58-F437EB3233B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6800" y="15228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2  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28600" y="121968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etwor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s a set of devices (often referred to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d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connected by communicatio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ink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A node can be a computer, printer, or any other device capable of sending and/or receiving data generated by other nodes on the network. A link can be a cable, air, optical fiber, or any medium which can transport a signal carrying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04920" y="4876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Network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hysical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ategories of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06360" y="43434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BC8D29B5-D8C0-4920-BF0D-92CDB3457D3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02040" y="3618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Crite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pends on Network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Delay and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ailure rate of network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availability/robust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ta protection against corruption/loss of data due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licious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53A82A30-687B-4CA3-A669-BDF7E3DC593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70440" y="361800"/>
            <a:ext cx="35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ype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oint to Point - single transmitt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ltipoint - multiple recipients of single 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ysical Top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nnection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ype of transmission - unicast, mulitcast, broadc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4E1E7C83-F990-48EE-9F08-10F326F37C5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000" y="45720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connections: point-to-point and multi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20600" y="1717560"/>
            <a:ext cx="68281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2E1785C8-53BF-4C7C-9044-F675BCC4FAE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1320" y="3808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top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154160" y="2317680"/>
            <a:ext cx="6389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4:28:17Z</dcterms:created>
  <dc:creator>Magda El Zarki</dc:creator>
  <dc:description/>
  <dc:language>en-US</dc:language>
  <cp:lastModifiedBy>ajay</cp:lastModifiedBy>
  <dcterms:modified xsi:type="dcterms:W3CDTF">2021-01-26T11:45:57Z</dcterms:modified>
  <cp:revision>5</cp:revision>
  <dc:subject/>
  <dc:title>PowerPoint Presentation</dc:title>
</cp:coreProperties>
</file>